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95E9E-D7F5-4B02-A307-4C2005EB7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B8145-7C55-4339-87B9-BCC20D0C0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46075-42C0-4A6A-8D02-6290F98F7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962CF-4132-479F-A594-B18B5A9FD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F185B-A4FC-4304-94EF-13630341D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DAA8D-4CED-4F68-ADDE-498F44EE3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8E829-3AD5-4AF1-B8A2-10F1F569A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A8BB3-7387-4EAF-AFA8-1D2336E60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3D49C-7EBC-4750-BF8D-020B211ED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3FB31-81E8-42A9-AA07-C09EE7F5F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C2524-D23F-44DA-AE42-133760DB0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9F148-3B27-4D05-8AB2-C3C11F659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F835-ECCB-45BD-8B16-58214F6CA6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676520" y="4114800"/>
            <a:ext cx="716256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09680" y="1904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7" name="Picture 6" descr=""/>
          <p:cNvPicPr/>
          <p:nvPr/>
        </p:nvPicPr>
        <p:blipFill>
          <a:blip r:embed="rId1"/>
          <a:stretch/>
        </p:blipFill>
        <p:spPr>
          <a:xfrm>
            <a:off x="4952880" y="144792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s29</cp:lastModifiedBy>
  <dcterms:modified xsi:type="dcterms:W3CDTF">2004-10-28T01:35:48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